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242-B4EF-4C0D-ACCE-B8283978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E94-FFA4-4079-8029-19A5CFED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5A6-AE0C-43C7-A826-9178763D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E22-3D42-4FE6-85A8-64ED04F1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C68-3A5D-450F-8EBA-735DB80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D24-6785-4EF2-98ED-B06BBD9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30C-5082-4187-AA6E-62B0D2B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163-6762-4C75-ADFA-DDA9179B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F41-00AA-4B3F-82CD-25073D9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1B6-A3E4-4BEA-9755-C1DA8A6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7F3-4956-4DD7-BAD7-19BCECD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D30-583F-4F49-B027-83EF59D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467B-A96C-4AB2-818D-141261044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304920"/>
            <a:ext cx="6248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Nine Levels of Track Hel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track" descr=""/>
          <p:cNvPicPr/>
          <p:nvPr/>
        </p:nvPicPr>
        <p:blipFill>
          <a:blip r:embed="rId4"/>
          <a:stretch/>
        </p:blipFill>
        <p:spPr>
          <a:xfrm>
            <a:off x="2971800" y="2209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895480" y="5334120"/>
            <a:ext cx="3643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y: Aaron Tarnask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0" y="152280"/>
            <a:ext cx="48769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9: Shin Spli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shin_spl" descr=""/>
          <p:cNvPicPr/>
          <p:nvPr/>
        </p:nvPicPr>
        <p:blipFill>
          <a:blip r:embed="rId4"/>
          <a:stretch/>
        </p:blipFill>
        <p:spPr>
          <a:xfrm>
            <a:off x="914400" y="2438280"/>
            <a:ext cx="2300400" cy="350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2819520"/>
            <a:ext cx="374976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with shin splints as well as have their shins b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609480"/>
            <a:ext cx="7086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1: Anticipation Before An Ev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hyperventilating" descr=""/>
          <p:cNvPicPr/>
          <p:nvPr/>
        </p:nvPicPr>
        <p:blipFill>
          <a:blip r:embed="rId4"/>
          <a:stretch/>
        </p:blipFill>
        <p:spPr>
          <a:xfrm>
            <a:off x="1371600" y="2438280"/>
            <a:ext cx="2857680" cy="217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24796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3886200" cy="30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ose in this level will forever feel the nervousness and sickness of having to run an upcoming event, but the event will never come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5120" y="3808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2: 32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lhxjbh-lhxjb0031111westtexasrelay16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3810240" cy="2847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771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70560" y="2174760"/>
            <a:ext cx="3139920" cy="308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ose in this level must consistently run the fastest two- mile they can, They will get a break, but will then have to run it again and agai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7400" y="45720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3: 8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nedoly5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2438280"/>
            <a:ext cx="3200400" cy="350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must do the same as those individuals running two miles, but a much faster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09680" y="304920"/>
            <a:ext cx="488952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4: 400 Meter Ru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DJJohnson" descr=""/>
          <p:cNvPicPr/>
          <p:nvPr/>
        </p:nvPicPr>
        <p:blipFill>
          <a:blip r:embed="rId4"/>
          <a:stretch/>
        </p:blipFill>
        <p:spPr>
          <a:xfrm>
            <a:off x="914400" y="236232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2666880"/>
            <a:ext cx="359712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must do the same as those in the 3200 and 800, but at an extremely fast 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380880"/>
            <a:ext cx="516096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5: Pick Up Ru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tiredrunner" descr=""/>
          <p:cNvPicPr/>
          <p:nvPr/>
        </p:nvPicPr>
        <p:blipFill>
          <a:blip r:embed="rId4"/>
          <a:stretch/>
        </p:blipFill>
        <p:spPr>
          <a:xfrm>
            <a:off x="914400" y="2590920"/>
            <a:ext cx="2666880" cy="217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00600" y="2438280"/>
            <a:ext cx="373392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while consistently slowing down and speeding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09680" y="3808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6: Speed Workou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track1_leigh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4496040" cy="250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2438280"/>
            <a:ext cx="327672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Those in this level will have to run ladder workouts fore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0" y="380880"/>
            <a:ext cx="463392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7: Hill Workou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Road-Trip-Sept7-8%20160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4419360" cy="295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2720" y="2286000"/>
            <a:ext cx="268272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have to run up a hill that gradually grows steeper and stee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0" y="228600"/>
            <a:ext cx="4800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vel 8: Calf Cramp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leg-cramps" descr=""/>
          <p:cNvPicPr/>
          <p:nvPr/>
        </p:nvPicPr>
        <p:blipFill>
          <a:blip r:embed="rId4"/>
          <a:stretch/>
        </p:blipFill>
        <p:spPr>
          <a:xfrm>
            <a:off x="457200" y="23623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2133720"/>
            <a:ext cx="320040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ose in this level will be subject to calves that  continually lock and cramp tighter and tigh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2:54:18Z</dcterms:created>
  <dc:creator>Linda</dc:creator>
  <dc:description/>
  <dc:language>en-US</dc:language>
  <cp:lastModifiedBy>Linda</cp:lastModifiedBy>
  <dcterms:modified xsi:type="dcterms:W3CDTF">2011-09-15T03:22:52Z</dcterms:modified>
  <cp:revision>2</cp:revision>
  <dc:subject/>
  <dc:title>PowerPoint Presentation</dc:title>
</cp:coreProperties>
</file>